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FDBA-AED7-41FA-B88E-1AA8BB6A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11A1F-74D3-4A76-BD34-0D5FB03C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9268-7D44-47EF-A310-BDCD4DE4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340E6-1CD6-4B08-8760-408137AE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77EC-78A6-46D2-BC4E-640870DD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175D-F91E-43CC-935E-E122D677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F1A3-6415-4469-9D2E-B7EFCDBF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B995-DA57-4318-BCCE-FFB702B5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BC85-EEAE-4F9D-AA65-169D68CE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E673-0F86-4DA6-85A5-137384A2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8AC8-FB3D-4F8E-9CC4-EB1865FF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5090C-C42A-4963-AF01-0E5F1501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6D45-E872-4E2F-96BB-F92A6F5B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3D36-F8F8-4FD4-9049-6372B1B0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E4A5-3AE8-4EB5-A106-F2BD74E7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F5FF-EA05-436A-8851-0D99C115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A559-4154-43B1-9230-507A8CCD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C6DE-35D5-4B1E-949E-67AD86D0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E100-BA7E-4AD1-A36E-032E681F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2631-E4F1-4494-BF27-918A6CB1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6E061-90A7-4DE7-8E5C-9EECDA1C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13841-AB65-4D26-99F5-2684E9DF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FBBDB-1DE7-4F8B-BD88-00EFC986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3060-4FC3-4A64-800F-07E741CA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EDAF-D7DD-4FCC-AB65-0A68492E04C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4974-A10F-429C-8205-19202C6AD49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249920"/>
            <a:ext cx="957744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</a:rPr>
              <a:t>160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</a:rPr>
              <a:t>(265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</a:rPr>
              <a:t> Радост след скърби, слънце след мрак, корона след борба със силен враг, сладост след горест - вси чудеса! След странствувание - дом в небеса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4504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ед сълзи тук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авна сполук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мам при Бога м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чен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175284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Слънце на правда нас вече грей! Свършва се земна нощ - всичко се смей! Хвала на Тебе, славен Гер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вечни Цар и Бог, Спасител м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14504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ед сълзи тук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авна сполук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мам при Бога м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чен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14336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Плод след сеитба, правда след грях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ед болки здраве и след сълзи смях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ед нищета тук, богатство т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спод приготвил е спасение н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4504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ед сълзи тук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авна сполук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мам при Бога м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чен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44792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Нек' не те плашат зли врагов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ог победител е в вси веков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власт и със сила богат е Т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дойде в помощ теб Защитник тво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252360" y="14504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ед сълзи тук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авна сполук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мам при Бога м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чен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7-03T15:22:28Z</dcterms:modified>
  <cp:revision>94</cp:revision>
  <dc:subject/>
  <dc:title>Slide 1</dc:title>
</cp:coreProperties>
</file>